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79E5-8360-4A73-954B-58A4225F7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6394-6438-44F4-BCEF-5403E13F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B02E-55C6-46BE-B896-AADCE9F6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4CBF-B71C-4C39-B905-97297EA87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22CF-3FA7-4AA2-9727-5054C233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B725-B7F9-479A-8247-F6526A87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ECA9-A3DA-41B0-8666-5F9C034C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498E-22E1-4AC5-9732-A2BA6A9C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087A-E585-4039-B83F-AB27C207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F849-3009-4648-924B-DC1DFD3A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B528-4364-4C8F-B33B-9D4C15F6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2891-45B6-4678-A76A-655DBAA2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5204-73C5-4D50-A161-129AE489FA4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2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3"/>
          <a:stretch/>
        </p:blipFill>
        <p:spPr>
          <a:xfrm>
            <a:off x="2863800" y="981000"/>
            <a:ext cx="5956200" cy="2298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4"/>
          <a:stretch/>
        </p:blipFill>
        <p:spPr>
          <a:xfrm>
            <a:off x="1547640" y="1484280"/>
            <a:ext cx="3515040" cy="48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5"/>
          <a:stretch/>
        </p:blipFill>
        <p:spPr>
          <a:xfrm>
            <a:off x="539640" y="2077920"/>
            <a:ext cx="4532400" cy="63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6"/>
          <a:stretch/>
        </p:blipFill>
        <p:spPr>
          <a:xfrm>
            <a:off x="250920" y="2708280"/>
            <a:ext cx="4878360" cy="566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7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8" name="عنوان 1"/>
          <p:cNvSpPr/>
          <p:nvPr/>
        </p:nvSpPr>
        <p:spPr>
          <a:xfrm>
            <a:off x="276120" y="1557360"/>
            <a:ext cx="86360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5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 : (( بِاسْـمِكَ اللّهُـمَّ أَمـوتُ وَأَحْـيا )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3"/>
          <a:stretch/>
        </p:blipFill>
        <p:spPr>
          <a:xfrm>
            <a:off x="2568600" y="907920"/>
            <a:ext cx="6324480" cy="64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0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68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857160" y="1484280"/>
            <a:ext cx="8040600" cy="1081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8" name="عنوان 1"/>
          <p:cNvSpPr/>
          <p:nvPr/>
        </p:nvSpPr>
        <p:spPr>
          <a:xfrm>
            <a:off x="287280" y="2050920"/>
            <a:ext cx="856944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ظيفة الرسل :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رشاد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التخويف من الن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م لا يريدوا الإيمان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539640" y="836640"/>
            <a:ext cx="8444160" cy="1168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4"/>
          <a:stretch/>
        </p:blipFill>
        <p:spPr>
          <a:xfrm>
            <a:off x="4930920" y="3068640"/>
            <a:ext cx="3962160" cy="584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5"/>
          <a:stretch/>
        </p:blipFill>
        <p:spPr>
          <a:xfrm>
            <a:off x="434880" y="4581360"/>
            <a:ext cx="8481960" cy="1397160"/>
          </a:xfrm>
          <a:prstGeom prst="rect">
            <a:avLst/>
          </a:prstGeom>
          <a:ln w="0">
            <a:noFill/>
          </a:ln>
        </p:spPr>
      </p:pic>
      <p:sp>
        <p:nvSpPr>
          <p:cNvPr id="112" name="عنوان 1"/>
          <p:cNvSpPr/>
          <p:nvPr/>
        </p:nvSpPr>
        <p:spPr>
          <a:xfrm>
            <a:off x="324000" y="364500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عقبات : 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لائكة يتعاقبون علي العباد حرس بالليل وحرس بالنها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عنوان 1"/>
          <p:cNvSpPr/>
          <p:nvPr/>
        </p:nvSpPr>
        <p:spPr>
          <a:xfrm>
            <a:off x="324000" y="587700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له يعلم ذلك قبل تخلقه ونفخ الروح ف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6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0"/>
          <a:stretch/>
        </p:blipFill>
        <p:spPr>
          <a:xfrm>
            <a:off x="476280" y="1413000"/>
            <a:ext cx="819144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1304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48040" y="5008680"/>
            <a:ext cx="335268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105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3"/>
          <a:stretch/>
        </p:blipFill>
        <p:spPr>
          <a:xfrm>
            <a:off x="108000" y="981000"/>
            <a:ext cx="8928000" cy="5761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15552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1" descr=""/>
          <p:cNvPicPr/>
          <p:nvPr/>
        </p:nvPicPr>
        <p:blipFill>
          <a:blip r:embed="rId1"/>
          <a:stretch/>
        </p:blipFill>
        <p:spPr>
          <a:xfrm>
            <a:off x="239760" y="1816200"/>
            <a:ext cx="8724960" cy="449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"/>
          <p:cNvPicPr/>
          <p:nvPr/>
        </p:nvPicPr>
        <p:blipFill>
          <a:blip r:embed="rId2"/>
          <a:stretch/>
        </p:blipFill>
        <p:spPr>
          <a:xfrm>
            <a:off x="0" y="804960"/>
            <a:ext cx="9144000" cy="75240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39760" y="40766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بي يدعوهم إلى ربه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77840" y="907920"/>
            <a:ext cx="4178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وظيفة الرسل ووظيفة الملائك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4653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زيد في الحم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51577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للعبد ملائكة يتعاقبون عليه حرس بالليل وحرس بالنهار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62080" y="57340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ذابا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6303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و الله المطل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5797440" y="6308640"/>
            <a:ext cx="30956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تع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هل بالكفار برتبة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بو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هل الكفار بوظيف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نبياء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بعثة ا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داية والإرشاد والدعوة إلى توحيد الله تعالى والتخويف من العذ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عة علم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كل شيء مما خفي أو ظه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راقبة الله تعالى في السر والعلاني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وجوب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راقبة الله تعالى في السر والعلانية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له تعالى لا تخفى عليه خافي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وظائف الملائك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فظ العباد ورعايتهم وكتابة أعمال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ملائكة وأن لهم وظائف متعدد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27160" y="5013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زاء من جنس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27160" y="54100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لا يغير ما بقوم من خير أو شر حت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غيروا ما بأنفس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5877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ذا انتقلوا من الطاعة إلى المعصية كان التغيير من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قاباً ل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ذا انتقلوا من المعصية  إلى الطاعة كان التغيير من الله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ثواباً له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رادة ومشيئ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افذ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229860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4643280" y="2133720"/>
            <a:ext cx="3673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س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395280" y="2170080"/>
            <a:ext cx="31687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ست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395280" y="2673360"/>
            <a:ext cx="31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حي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4716360" y="2673360"/>
            <a:ext cx="3672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شام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3T10:20:24Z</dcterms:modified>
  <cp:revision>2043</cp:revision>
  <dc:subject/>
  <dc:title>عرض تقديمي في PowerPoint</dc:title>
</cp:coreProperties>
</file>